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CED7-8AA4-4BB8-A45E-D31C9BFB5A7E}"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0E1D-4445-4D78-8DAC-00A5D7EB67B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0BE2-1D56-42C3-BEC7-CD288945F27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dcc.ac.uk/events/research-data-management-forum/rdmf4-dealing-sensitive-data"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oviding Access to Your Data: </a:t>
            </a:r>
            <a:br>
              <a:rPr sz="4800"/>
            </a:br>
            <a:r>
              <a:rPr b="0" lang="en-US" sz="4800" spc="-1" strike="noStrike">
                <a:solidFill>
                  <a:srgbClr val="000000"/>
                </a:solidFill>
                <a:latin typeface="Helvetica Neue Light"/>
              </a:rPr>
              <a:t>Handling sensitive data</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965196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Management Plans: Data access, sharing, and re-use polic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esponsible data use: Data restric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Righ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ubmission agreements: Constraints</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fontScale="92000"/>
          </a:bodyPr>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data are sensitive and may require special handling.</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y be designated as sensitive for various reasons.</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designation of data as sensitive may be permanent or temporary.</a:t>
            </a:r>
            <a:endParaRPr b="0" lang="en-US" sz="34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nsitive data must be identified and properly handled to ensure that any sensitive information is not compromised.</a:t>
            </a:r>
            <a:endParaRPr b="0" lang="en-US" sz="3400" spc="-1" strike="noStrike">
              <a:solidFill>
                <a:srgbClr val="606060"/>
              </a:solidFill>
              <a:latin typeface="Helvetica Neue"/>
            </a:endParaRPr>
          </a:p>
          <a:p>
            <a:pPr lvl="1" marL="607320" indent="-244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managers must ensure that sensitive data are adequately protected so that they are not accessed or modified by unauthorized persons and are not lost or misused.</a:t>
            </a:r>
            <a:endParaRPr b="0" lang="en-US" sz="2800" spc="-1" strike="noStrike">
              <a:solidFill>
                <a:srgbClr val="606060"/>
              </a:solidFill>
              <a:latin typeface="Helvetica Neue"/>
            </a:endParaRPr>
          </a:p>
          <a:p>
            <a:pPr lvl="1" marL="607320" indent="-244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users must ensure that their handling or use does not violate any restrictions that have been placed on sensitive data that they use. </a:t>
            </a:r>
            <a:endParaRPr b="0" lang="en-US" sz="2800" spc="-1" strike="noStrike">
              <a:solidFill>
                <a:srgbClr val="606060"/>
              </a:solidFill>
              <a:latin typeface="Helvetica Neue"/>
            </a:endParaRPr>
          </a:p>
          <a:p>
            <a:pPr marL="245160" indent="-245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may be designated as sensitive to protect individuals and other life forms, property, programs, or other interests.</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ws, regulations, or policies may designate data as sensitive.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censes and agreements may specify requirements to protect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ecurity: data about locations or property that cannot be disclos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vacy and civil rights: personal or information identifying individual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vironmental information about locations or inhabitants that need to be protect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prietary information about new developments or technologies. </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iolating restrictions that have been placed on sensitive data is unethical and could result in civil or criminal penalties, such as fines, loss of privileges, or incarceration.</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finition of sensitive information</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t>
            </a:r>
            <a:r>
              <a:rPr b="0" lang="en-US" sz="3400" spc="-1" strike="noStrike">
                <a:solidFill>
                  <a:srgbClr val="606060"/>
                </a:solidFill>
                <a:latin typeface="Helvetica Neue"/>
              </a:rPr>
              <a:t>any information, the loss, misuse, or unauthorized access to or modification of which could adversely affect the national interest or the conduct of Federal programs, or the privacy to which individuals are entitled under section 552a of title 5, United States Code (the Privacy Act), but which has not been specifically authorized under criteria established by an Executive order or an Act of Congress to be kept secret in the interest of national defense or foreign policy” (Computer Security Act of 1987)</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 are sensitive data handled?</a:t>
            </a:r>
            <a:endParaRPr b="0" lang="en-US" sz="4400" spc="-1" strike="noStrike">
              <a:solidFill>
                <a:srgbClr val="000000"/>
              </a:solidFill>
              <a:latin typeface="Helvetica Neue Light"/>
            </a:endParaRPr>
          </a:p>
        </p:txBody>
      </p:sp>
      <p:sp>
        <p:nvSpPr>
          <p:cNvPr id="753" name=""/>
          <p:cNvSpPr txBox="1"/>
          <p:nvPr/>
        </p:nvSpPr>
        <p:spPr>
          <a:xfrm>
            <a:off x="253800" y="2361960"/>
            <a:ext cx="12420360" cy="617220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ccess and use </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nsitive data must be protected to limit who may have access or how they are used.</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uthorization for access may be limited to specific individuals or specific purposes.</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nsitive data may require additional security, monitoring, and loss prevention.</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feguards may need to limit modifications or derivations of sensitive data.</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strictions may limit whether sensitive data may be used in products or services.</a:t>
            </a:r>
            <a:endParaRPr b="0" lang="en-US" sz="2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semination and copie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strictions may limit who is authorized to distribute the data, how the data may be distributed, and whether copies of the data may be created.</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of sensitive data may be limited to a specific location or service.</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may be limited to a specific time period, which may be in the future.</a:t>
            </a:r>
            <a:endParaRPr b="0" lang="en-US" sz="2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istribution of data and derived products or associated services may be limited. </a:t>
            </a:r>
            <a:endParaRPr b="0" lang="en-US" sz="24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handling sensitive data</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dentify data that must be designated as sensitive.</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signate data that are sensitive and label as sensitive.</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ore sensitive data in secure faciliti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nsport sensitive data using secure mean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with sensitive data, a description of the conditions for handling sensitive data along with acceptable us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stablish infrastructure and procedures for storing, managing, disseminating, accessing, copying, transmitting, and using sensitiv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rain staff on how to protect sensitive data from unauthorized use.</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of providing access to sensitive data</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Limit access to authorized individuals or roles</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able access within a facility only accessible by authorized person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Limit access to authorized individuals with password-protection.</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stablish a data enclave without capabilities to copy or transmit data.</a:t>
            </a:r>
            <a:endParaRPr b="0" lang="en-US" sz="2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rovide options for authorizing access to sensitive data</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evidence of approval or expertise.</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users to sign a confidentiality, non-disclosure, or data use agreement.</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ire approval of data protection plan from potential user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an exception or waiver of restrictions under certain conditions.</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clearance for specific individuals to access sensitive data.</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quest declassification of sensitive data from relevant authority.</a:t>
            </a:r>
            <a:endParaRPr b="0" lang="en-US" sz="2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Modify the data to protect sensitive portions</a:t>
            </a:r>
            <a:endParaRPr b="0" lang="en-US" sz="32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hange aspects of data that are sensitive (recode, generalize)</a:t>
            </a:r>
            <a:endParaRPr b="0" lang="en-US" sz="2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move or obscure the portions of data that are sensitive (redact)</a:t>
            </a:r>
            <a:endParaRPr b="0" lang="en-US" sz="24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iding access to sensitive data</a:t>
            </a:r>
            <a:endParaRPr b="0" lang="en-US" sz="4400" spc="-1" strike="noStrike">
              <a:solidFill>
                <a:srgbClr val="000000"/>
              </a:solidFill>
              <a:latin typeface="Helvetica Neue Light"/>
            </a:endParaRPr>
          </a:p>
        </p:txBody>
      </p:sp>
      <p:sp>
        <p:nvSpPr>
          <p:cNvPr id="759" name=""/>
          <p:cNvSpPr txBox="1"/>
          <p:nvPr/>
        </p:nvSpPr>
        <p:spPr>
          <a:xfrm>
            <a:off x="482400" y="2324160"/>
            <a:ext cx="1211580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Review or establish organizational policies on sensitive data</a:t>
            </a:r>
            <a:endParaRPr b="0" lang="en-US" sz="32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dentify conditions under which sensitive data may be disseminated.</a:t>
            </a:r>
            <a:endParaRPr b="0" lang="en-US" sz="32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Select a dissemination method that does not violate restrictions.  </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reate a data dissemination plan for sensitive data. </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Request approval from authorities for data dissemination plan.</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isseminate data in accordance with data dissemination plan.</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Monitor data dissemination to ensure compliance with all restrictions on sensitive data.</a:t>
            </a:r>
            <a:endParaRPr b="0" lang="en-US" sz="3200" spc="-1" strike="noStrike">
              <a:solidFill>
                <a:srgbClr val="606060"/>
              </a:solidFill>
              <a:latin typeface="Helvetica Neue"/>
            </a:endParaRPr>
          </a:p>
          <a:p>
            <a:pPr lvl="1"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ease dissemination if restrictions on sensitive data are violated and immediately report any violations to authorities</a:t>
            </a:r>
            <a:r>
              <a:rPr b="0" lang="en-US" sz="2800" spc="-1" strike="noStrike">
                <a:solidFill>
                  <a:srgbClr val="606060"/>
                </a:solidFill>
                <a:latin typeface="Helvetica Neue"/>
              </a:rPr>
              <a:t>.</a:t>
            </a:r>
            <a:endParaRPr b="0" lang="en-US" sz="28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58720" y="1980720"/>
            <a:ext cx="11862000" cy="7239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ere to go for more inform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Best Practices for Sharing Sensitive Environmental Geospatial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www.geoconnections.org/publications/Key_documents/Sensitive_Env_Geo_Data_Guide_EN_v1.pdf</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Computer Security Act of 1987</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csrc.nist.gov/groups/SMA/ispab/documents/csa_87.txt</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Confidentiality Issues in Geospatial Data Applications</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sedac.ciesin.columbia.edu/confidentiality/</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Dealing With Sensitive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Helvetica Neue"/>
                <a:hlinkClick r:id="rId1"/>
              </a:rPr>
              <a:t>http://www.dcc.ac.uk/events/research-data-management-forum/rdmf4-dealing-sensitive-data</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ICPSR – Restricted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http://www.icpsr.umich.edu/icpsrweb/ICPSR/access/restricted/</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6060"/>
                </a:solidFill>
                <a:latin typeface="Helvetica Neue"/>
              </a:rPr>
              <a:t>Guidelines for Providing Appropriate Access to Geospatial Data in Response to Security Concerns</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http://www.fgdc.gov/policyandplanning/Access%20Guidelines.pdf</a:t>
            </a: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R Downs</cp:lastModifiedBy>
  <dcterms:modified xsi:type="dcterms:W3CDTF">2011-12-22T19:16:19Z</dcterms:modified>
  <cp:revision>90</cp:revision>
  <dc:subject/>
  <dc:title>ESIP Federation 101</dc:title>
</cp:coreProperties>
</file>